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C0B-C260-4178-B149-45094E63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A7C-822E-48AB-8D0D-3304FCA0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8A1-F174-4790-B720-233FAC63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3BFC-8C2F-4B43-A3CB-E8F83DD1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BD0D-2B25-4122-AA70-038BECE6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6314-CB0F-49CB-AE7D-14F0CD2A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51CA-A827-49FA-A76C-D12051D7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562C-6D58-4758-AAA6-F528FF92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B46D-75F0-43E9-AAE6-6396CEC5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A35E-8F4A-4E7A-BC36-399AF6B9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47F9-1053-42D8-BBFC-BC6FACE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FB3-2A2F-4BFA-9FF2-439B879F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98DB-9E7C-4E32-B5E1-72865CDA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070B-6E0E-4846-9C02-480FB18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4F7D-B885-4447-9C4B-76D76D30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C1B3-6856-4773-91E0-25A4D7A5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114E-18D9-4B7E-9F67-17DB0879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E3F7-392B-4898-99E5-29F156BD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41ED-4E4D-417F-9A84-AA1E60EE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6C56-7BF2-4C05-ADE3-397E0E02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E67C3-7F44-4B57-8D82-E8AB4040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947D-A96B-414C-BE17-3C1E84D1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D46-C1A6-40E2-B825-B66BBFED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DAB09-A334-4D22-B22A-7BBB8638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84633-7B8D-492E-B1AA-7FBB6D36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D68C-FF14-4BDB-8FE4-278FBDDE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E372-D9DE-4841-9973-F789C5BA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BFAE7-3A1C-47BC-894A-B995D6DC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0367A-F516-4C22-A2E4-AD6C93A6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FD7E6-BF39-4631-B0DD-6C83F099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46D4C-EA3D-40CE-9E81-8472CF5F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AB6BC-E028-48D0-B5D4-99DF6219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8E97-0DB5-4F51-B549-389AA4AD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FED-AC37-4B28-853C-E03B0F84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F94A-481D-423B-8B21-75E55E08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B22D-88EC-4AFE-BD87-22EB9092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FBBA-EE08-442B-81E5-F873FDA3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2D535-BAD4-4107-BCEA-57700E51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83DE5-CC8F-4CA0-BF00-0A5BF010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F95AC-25FE-44AE-90E1-32B60DB5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B7FAF-14F8-4DBF-8273-85BA6A7D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1860-8967-49DB-A2A5-2E633C59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011C-912F-4607-90FC-96C3F039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004-E5E6-4665-83EC-E6F22269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3E8-C0BF-4299-86F3-4D01933A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C50-68A2-46DF-88E9-AC9C77FD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752-CC18-4108-875E-D619DD17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4E9-60AB-4D43-B638-334DDEB5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E852-3174-42A6-8E62-1BB4997D32FF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380C-449E-4DDC-975C-B75F04733F2A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4C5D-5C15-4641-BF0F-7D92F616556E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9155-A627-4FD7-8C1D-8E8851404E75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ítulo 1" descr=""/>
          <p:cNvPicPr/>
          <p:nvPr/>
        </p:nvPicPr>
        <p:blipFill>
          <a:blip r:embed="rId1"/>
          <a:stretch/>
        </p:blipFill>
        <p:spPr>
          <a:xfrm>
            <a:off x="189000" y="1365120"/>
            <a:ext cx="87058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3714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EA DE TRABALHO DO </a:t>
            </a:r>
            <a:r>
              <a:rPr b="1" i="1" lang="pt-B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400" y="704880"/>
            <a:ext cx="825804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Barra de ferramentas do CG II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428920" y="1428840"/>
            <a:ext cx="478008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571840" y="857160"/>
            <a:ext cx="3552840" cy="2071800"/>
          </a:xfrm>
          <a:prstGeom prst="rect">
            <a:avLst/>
          </a:prstGeom>
          <a:ln w="0">
            <a:noFill/>
          </a:ln>
        </p:spPr>
      </p:pic>
      <p:sp>
        <p:nvSpPr>
          <p:cNvPr id="200" name="CaixaDeTexto 4"/>
          <p:cNvSpPr/>
          <p:nvPr/>
        </p:nvSpPr>
        <p:spPr>
          <a:xfrm>
            <a:off x="285840" y="2786040"/>
            <a:ext cx="857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ntei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285840" y="3143160"/>
            <a:ext cx="3009960" cy="1200240"/>
          </a:xfrm>
          <a:prstGeom prst="rect">
            <a:avLst/>
          </a:prstGeom>
          <a:ln w="0">
            <a:noFill/>
          </a:ln>
        </p:spPr>
      </p:pic>
      <p:sp>
        <p:nvSpPr>
          <p:cNvPr id="202" name="CaixaDeTexto 7"/>
          <p:cNvSpPr/>
          <p:nvPr/>
        </p:nvSpPr>
        <p:spPr>
          <a:xfrm>
            <a:off x="357120" y="47149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>
            <a:off x="285840" y="5072040"/>
            <a:ext cx="3019320" cy="990720"/>
          </a:xfrm>
          <a:prstGeom prst="rect">
            <a:avLst/>
          </a:prstGeom>
          <a:ln w="0">
            <a:noFill/>
          </a:ln>
        </p:spPr>
      </p:pic>
      <p:sp>
        <p:nvSpPr>
          <p:cNvPr id="204" name="CaixaDeTexto 9"/>
          <p:cNvSpPr/>
          <p:nvPr/>
        </p:nvSpPr>
        <p:spPr>
          <a:xfrm>
            <a:off x="3929040" y="285768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4"/>
          <a:stretch/>
        </p:blipFill>
        <p:spPr>
          <a:xfrm>
            <a:off x="3929040" y="3143160"/>
            <a:ext cx="2962440" cy="1809720"/>
          </a:xfrm>
          <a:prstGeom prst="rect">
            <a:avLst/>
          </a:prstGeom>
          <a:ln w="0">
            <a:noFill/>
          </a:ln>
        </p:spPr>
      </p:pic>
      <p:sp>
        <p:nvSpPr>
          <p:cNvPr id="206" name="CaixaDeTexto 11"/>
          <p:cNvSpPr/>
          <p:nvPr/>
        </p:nvSpPr>
        <p:spPr>
          <a:xfrm>
            <a:off x="4000680" y="49291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rv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5"/>
          <a:stretch/>
        </p:blipFill>
        <p:spPr>
          <a:xfrm>
            <a:off x="4000680" y="5286240"/>
            <a:ext cx="29527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85840" y="257148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i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552840" cy="1857600"/>
          </a:xfrm>
          <a:prstGeom prst="rect">
            <a:avLst/>
          </a:prstGeom>
          <a:ln w="0">
            <a:noFill/>
          </a:ln>
        </p:spPr>
      </p:pic>
      <p:sp>
        <p:nvSpPr>
          <p:cNvPr id="210" name="CaixaDeTexto 5"/>
          <p:cNvSpPr/>
          <p:nvPr/>
        </p:nvSpPr>
        <p:spPr>
          <a:xfrm>
            <a:off x="357120" y="3000240"/>
            <a:ext cx="3214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357120" y="3000240"/>
            <a:ext cx="3000600" cy="2409840"/>
          </a:xfrm>
          <a:prstGeom prst="rect">
            <a:avLst/>
          </a:prstGeom>
          <a:ln w="0">
            <a:noFill/>
          </a:ln>
        </p:spPr>
      </p:pic>
      <p:sp>
        <p:nvSpPr>
          <p:cNvPr id="212" name="CaixaDeTexto 9"/>
          <p:cNvSpPr/>
          <p:nvPr/>
        </p:nvSpPr>
        <p:spPr>
          <a:xfrm>
            <a:off x="4143240" y="2571840"/>
            <a:ext cx="2071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3"/>
          <a:stretch/>
        </p:blipFill>
        <p:spPr>
          <a:xfrm>
            <a:off x="4286160" y="3000240"/>
            <a:ext cx="29718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85840" y="2571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552840" cy="1857600"/>
          </a:xfrm>
          <a:prstGeom prst="rect">
            <a:avLst/>
          </a:prstGeom>
          <a:ln w="0">
            <a:noFill/>
          </a:ln>
        </p:spPr>
      </p:pic>
      <p:sp>
        <p:nvSpPr>
          <p:cNvPr id="216" name="CaixaDeTexto 5"/>
          <p:cNvSpPr/>
          <p:nvPr/>
        </p:nvSpPr>
        <p:spPr>
          <a:xfrm>
            <a:off x="357120" y="3000240"/>
            <a:ext cx="3214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aixaDeTexto 9"/>
          <p:cNvSpPr/>
          <p:nvPr/>
        </p:nvSpPr>
        <p:spPr>
          <a:xfrm>
            <a:off x="4143240" y="2571840"/>
            <a:ext cx="3357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erificar propried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285840" y="3071880"/>
            <a:ext cx="2943000" cy="961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4214880" y="3000240"/>
            <a:ext cx="3076560" cy="1362240"/>
          </a:xfrm>
          <a:prstGeom prst="rect">
            <a:avLst/>
          </a:prstGeom>
          <a:ln w="0">
            <a:noFill/>
          </a:ln>
        </p:spPr>
      </p:pic>
      <p:sp>
        <p:nvSpPr>
          <p:cNvPr id="220" name="CaixaDeTexto 9"/>
          <p:cNvSpPr/>
          <p:nvPr/>
        </p:nvSpPr>
        <p:spPr>
          <a:xfrm>
            <a:off x="362880" y="45007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d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4"/>
          <a:stretch/>
        </p:blipFill>
        <p:spPr>
          <a:xfrm>
            <a:off x="357120" y="4857840"/>
            <a:ext cx="3981600" cy="1657440"/>
          </a:xfrm>
          <a:prstGeom prst="rect">
            <a:avLst/>
          </a:prstGeom>
          <a:ln w="0">
            <a:noFill/>
          </a:ln>
        </p:spPr>
      </p:pic>
      <p:sp>
        <p:nvSpPr>
          <p:cNvPr id="222" name="CaixaDeTexto 13"/>
          <p:cNvSpPr/>
          <p:nvPr/>
        </p:nvSpPr>
        <p:spPr>
          <a:xfrm>
            <a:off x="4720320" y="4286160"/>
            <a:ext cx="8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ib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5"/>
          <a:stretch/>
        </p:blipFill>
        <p:spPr>
          <a:xfrm>
            <a:off x="4714920" y="4643280"/>
            <a:ext cx="38671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85840" y="257148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pt-B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enha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552840" cy="1857600"/>
          </a:xfrm>
          <a:prstGeom prst="rect">
            <a:avLst/>
          </a:prstGeom>
          <a:ln w="0">
            <a:noFill/>
          </a:ln>
        </p:spPr>
      </p:pic>
      <p:sp>
        <p:nvSpPr>
          <p:cNvPr id="226" name="CaixaDeTexto 5"/>
          <p:cNvSpPr/>
          <p:nvPr/>
        </p:nvSpPr>
        <p:spPr>
          <a:xfrm>
            <a:off x="357120" y="3000240"/>
            <a:ext cx="3214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2214720" y="3643200"/>
            <a:ext cx="41907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6:18:13Z</dcterms:created>
  <dc:creator>Windows</dc:creator>
  <dc:description/>
  <dc:language>en-US</dc:language>
  <cp:lastModifiedBy>Windows</cp:lastModifiedBy>
  <dcterms:modified xsi:type="dcterms:W3CDTF">2009-10-17T18:34:58Z</dcterms:modified>
  <cp:revision>16</cp:revision>
  <dc:subject/>
  <dc:title>CURSO: </dc:title>
</cp:coreProperties>
</file>